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8A56-A652-4F50-B4A1-4F2BB72FB3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Google Shape;192;p1:notes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D1E5-EB11-4922-B1F2-F5BD86839A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7338-9168-477C-99EC-BF7008DDB2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90ED-0A5D-4881-AC67-693EA14827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3D05-BD0C-4C35-BCAB-A4D35277BB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F842-E612-49AE-B1B4-3E5E169B03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C60C-8719-4DA8-A467-A6CEC441A1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877-2408-4690-83B3-0CF7340DEC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42E0-9321-4A4F-B3B6-B8C31209DB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2E92-DAB1-4D28-B816-7AB96A094D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0EFA-C80E-4DDE-A5F2-CD9FE372C8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2767-8121-43FB-9C1E-6CEB43AD3A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AAB9-4759-4D26-B592-7981F63D48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9368-830B-4ACA-849A-8E2F950AAD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519-0F83-4C64-B8FC-71049B01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04C-5405-44C1-9B0F-E4C00933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B5B-E328-40C6-953F-C6E37527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2E1-B517-46A4-B51D-414C5D80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31C7C-E804-441A-8325-7BC607E41F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85A47-98BA-467D-B758-3390B21430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2824D-EB23-4277-B903-AEA881DF9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09102-3A50-4771-91F0-FA770B1671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73D48-A903-4067-9580-6B8692556E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7F9AC-90FD-4037-870E-6CAFA483BB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1CE10-4D1D-4679-B744-86B3EB3F95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2DD-18E5-42CD-813A-BCC93BF4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288F6-3D57-45B4-84C0-FDD89F5DDE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BADB2-6CF5-42C0-B9F6-0771763877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CC299-FB2E-4603-BC53-CD9F22DD88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D6CB5-799F-4F0F-97F4-B7F6C54221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613FC-631E-43C4-A254-38225096B0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0635B-1E7F-4A5E-A873-EFF4936B39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96181-268D-48C6-BB0C-FA83F7CC0D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82799-C3B8-4CB8-9440-DE0A1B6D94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E10D7-B0FD-43D5-AF4C-099E9F2F64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769BB-7EE0-4108-94BC-0F72A84D69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1CB-1544-4B54-B5D9-CCA75453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79261-6399-4CFD-B2C2-6DC21F567B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3032A-6EE1-44A3-BCDC-9F3FE9EC91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D30A3-F049-4BA3-AF80-B9E2EA06E7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38A36-E345-457B-A328-4875DB9665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DEF8A-194A-47EE-AAFA-A8CE711133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AA1DE-8352-4154-870A-004A3216C7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03639-4639-4DB3-9282-5239A381D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D66-0FE8-46F6-B5A2-3287C986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D36-21B8-42FB-A008-84D95BBA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1E6-7A06-4795-94F0-06B95B2E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D7D-94AB-40F0-96D9-6BC66AAD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9A5-FDD3-488E-BCC7-47A1A2A6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65E3-D9FE-439E-899F-587150A5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B3ED-CDD1-442E-BE64-966541FF6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6"/>
          <p:cNvGrpSpPr/>
          <p:nvPr/>
        </p:nvGrpSpPr>
        <p:grpSpPr>
          <a:xfrm>
            <a:off x="8717040" y="5969160"/>
            <a:ext cx="3524040" cy="920520"/>
            <a:chOff x="8717040" y="5969160"/>
            <a:chExt cx="3524040" cy="920520"/>
          </a:xfrm>
        </p:grpSpPr>
        <p:grpSp>
          <p:nvGrpSpPr>
            <p:cNvPr id="42" name="Полилиния: фигура 7"/>
            <p:cNvGrpSpPr/>
            <p:nvPr/>
          </p:nvGrpSpPr>
          <p:grpSpPr>
            <a:xfrm>
              <a:off x="8717040" y="5969160"/>
              <a:ext cx="3524040" cy="920520"/>
              <a:chOff x="8717040" y="5969160"/>
              <a:chExt cx="3524040" cy="920520"/>
            </a:xfrm>
          </p:grpSpPr>
          <p:pic>
            <p:nvPicPr>
              <p:cNvPr id="43" name="Полилиния: фигура 7" descr=""/>
              <p:cNvPicPr/>
              <p:nvPr/>
            </p:nvPicPr>
            <p:blipFill>
              <a:blip r:embed="rId2"/>
              <a:stretch/>
            </p:blipFill>
            <p:spPr>
              <a:xfrm>
                <a:off x="8717040" y="5969160"/>
                <a:ext cx="3523320" cy="9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"/>
              <p:cNvSpPr/>
              <p:nvPr/>
            </p:nvSpPr>
            <p:spPr>
              <a:xfrm>
                <a:off x="8717040" y="5969880"/>
                <a:ext cx="3524040" cy="91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" name="Прямоугольник 8"/>
            <p:cNvSpPr/>
            <p:nvPr/>
          </p:nvSpPr>
          <p:spPr>
            <a:xfrm>
              <a:off x="8717040" y="6551280"/>
              <a:ext cx="34945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ШАГ 1. «МЫ УЗНАЁМ»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Прямоугольник 9"/>
            <p:cNvSpPr/>
            <p:nvPr/>
          </p:nvSpPr>
          <p:spPr>
            <a:xfrm>
              <a:off x="9366120" y="6271920"/>
              <a:ext cx="28450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ШАГ 2. «МЫ РАЗМЫШЛЯЕМ»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Прямоугольник 10"/>
            <p:cNvSpPr/>
            <p:nvPr/>
          </p:nvSpPr>
          <p:spPr>
            <a:xfrm>
              <a:off x="10041120" y="5987520"/>
              <a:ext cx="2170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ШАГ 3. «МЫ ДЕЙСТВУЕМ»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" name="Прямоугольник 11"/>
          <p:cNvSpPr/>
          <p:nvPr/>
        </p:nvSpPr>
        <p:spPr>
          <a:xfrm>
            <a:off x="3048120" y="3029040"/>
            <a:ext cx="566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6746760" y="189000"/>
            <a:ext cx="45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  <a:ea typeface="Arial"/>
              </a:rPr>
              <a:t>проект</a:t>
            </a: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f7f7f"/>
                </a:solidFill>
                <a:latin typeface="Arial"/>
                <a:ea typeface="Arial"/>
              </a:rPr>
              <a:t>«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Ш</a:t>
            </a:r>
            <a:r>
              <a:rPr b="0" lang="ru-RU" sz="1800" spc="-1" strike="noStrike">
                <a:solidFill>
                  <a:srgbClr val="7f7f7f"/>
                </a:solidFill>
                <a:latin typeface="Arial"/>
                <a:ea typeface="Arial"/>
              </a:rPr>
              <a:t>кола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7f7f7f"/>
                </a:solidFill>
                <a:latin typeface="Arial"/>
                <a:ea typeface="Arial"/>
              </a:rPr>
              <a:t>ктивного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Г</a:t>
            </a:r>
            <a:r>
              <a:rPr b="0" lang="ru-RU" sz="1800" spc="-1" strike="noStrike">
                <a:solidFill>
                  <a:srgbClr val="7f7f7f"/>
                </a:solidFill>
                <a:latin typeface="Arial"/>
                <a:ea typeface="Arial"/>
              </a:rPr>
              <a:t>ражданин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Текст 7"/>
          <p:cNvSpPr/>
          <p:nvPr/>
        </p:nvSpPr>
        <p:spPr>
          <a:xfrm>
            <a:off x="932040" y="6334200"/>
            <a:ext cx="10180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Calibri"/>
              </a:rPr>
              <a:t>Информация предоставлена Белорусским телеграфных агентством БЕЛТА (</a:t>
            </a:r>
            <a:r>
              <a:rPr b="0" i="1" lang="en-US" sz="1400" spc="-1" strike="noStrike">
                <a:solidFill>
                  <a:srgbClr val="7f7f7f"/>
                </a:solidFill>
                <a:latin typeface="Calibri"/>
              </a:rPr>
              <a:t>www.belta.by</a:t>
            </a:r>
            <a:r>
              <a:rPr b="0" i="1" lang="ru-RU" sz="1400" spc="-1" strike="noStrike">
                <a:solidFill>
                  <a:srgbClr val="7f7f7f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4" descr="Изображение выглядит как объект&#10;&#10;Описание создано автоматически"/>
          <p:cNvPicPr/>
          <p:nvPr/>
        </p:nvPicPr>
        <p:blipFill>
          <a:blip r:embed="rId3"/>
          <a:stretch/>
        </p:blipFill>
        <p:spPr>
          <a:xfrm>
            <a:off x="11304720" y="133200"/>
            <a:ext cx="792000" cy="898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4"/>
          </p:nvPr>
        </p:nvSpPr>
        <p:spPr>
          <a:xfrm>
            <a:off x="0" y="6557760"/>
            <a:ext cx="21528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D4CA-17E0-4DE4-BB03-D17321F31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3048120" y="3029040"/>
            <a:ext cx="566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6746760" y="189000"/>
            <a:ext cx="45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  <a:ea typeface="Arial"/>
              </a:rPr>
              <a:t>проект</a:t>
            </a: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7f7f7f"/>
                </a:solidFill>
                <a:latin typeface="Arial"/>
                <a:ea typeface="Arial"/>
              </a:rPr>
              <a:t>«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Ш</a:t>
            </a:r>
            <a:r>
              <a:rPr b="0" lang="ru-RU" sz="1800" spc="-1" strike="noStrike">
                <a:solidFill>
                  <a:srgbClr val="7f7f7f"/>
                </a:solidFill>
                <a:latin typeface="Arial"/>
                <a:ea typeface="Arial"/>
              </a:rPr>
              <a:t>кола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А</a:t>
            </a:r>
            <a:r>
              <a:rPr b="0" lang="ru-RU" sz="1800" spc="-1" strike="noStrike">
                <a:solidFill>
                  <a:srgbClr val="7f7f7f"/>
                </a:solidFill>
                <a:latin typeface="Arial"/>
                <a:ea typeface="Arial"/>
              </a:rPr>
              <a:t>ктивного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Г</a:t>
            </a:r>
            <a:r>
              <a:rPr b="0" lang="ru-RU" sz="1800" spc="-1" strike="noStrike">
                <a:solidFill>
                  <a:srgbClr val="7f7f7f"/>
                </a:solidFill>
                <a:latin typeface="Arial"/>
                <a:ea typeface="Arial"/>
              </a:rPr>
              <a:t>ражданин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8" descr="Изображение выглядит как объект&#10;&#10;Описание создано автоматически"/>
          <p:cNvPicPr/>
          <p:nvPr/>
        </p:nvPicPr>
        <p:blipFill>
          <a:blip r:embed="rId2"/>
          <a:stretch/>
        </p:blipFill>
        <p:spPr>
          <a:xfrm>
            <a:off x="11304720" y="133200"/>
            <a:ext cx="792000" cy="898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5"/>
          </p:nvPr>
        </p:nvSpPr>
        <p:spPr>
          <a:xfrm>
            <a:off x="9789840" y="6519600"/>
            <a:ext cx="2152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AD24-52B7-4A6E-BF51-ABAE0A2B62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4280" y="99720"/>
            <a:ext cx="7761240" cy="17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551"/>
                </a:solidFill>
                <a:latin typeface="Arial"/>
                <a:ea typeface="Arial"/>
              </a:rPr>
              <a:t>ПРОЕКТ </a:t>
            </a:r>
            <a:br>
              <a:rPr sz="4800"/>
            </a:br>
            <a:r>
              <a:rPr b="1" lang="ru-RU" sz="3600" spc="-1" strike="noStrike">
                <a:solidFill>
                  <a:srgbClr val="009551"/>
                </a:solidFill>
                <a:latin typeface="Arial"/>
                <a:ea typeface="Arial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Ш</a:t>
            </a:r>
            <a:r>
              <a:rPr b="1" lang="ru-RU" sz="3600" spc="-1" strike="noStrike">
                <a:solidFill>
                  <a:srgbClr val="009551"/>
                </a:solidFill>
                <a:latin typeface="Arial"/>
                <a:ea typeface="Arial"/>
              </a:rPr>
              <a:t>кола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ru-RU" sz="3600" spc="-1" strike="noStrike">
                <a:solidFill>
                  <a:srgbClr val="009551"/>
                </a:solidFill>
                <a:latin typeface="Arial"/>
                <a:ea typeface="Arial"/>
              </a:rPr>
              <a:t>ктивного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r>
              <a:rPr b="1" lang="ru-RU" sz="3600" spc="-1" strike="noStrike">
                <a:solidFill>
                  <a:srgbClr val="009551"/>
                </a:solidFill>
                <a:latin typeface="Arial"/>
                <a:ea typeface="Arial"/>
              </a:rPr>
              <a:t>ражданина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Google Shape;199;p25"/>
          <p:cNvSpPr/>
          <p:nvPr/>
        </p:nvSpPr>
        <p:spPr>
          <a:xfrm>
            <a:off x="0" y="6137280"/>
            <a:ext cx="1219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оябрь, 2020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5"/>
          <p:cNvSpPr/>
          <p:nvPr/>
        </p:nvSpPr>
        <p:spPr>
          <a:xfrm>
            <a:off x="4430880" y="2103480"/>
            <a:ext cx="7505640" cy="651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d01a1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2" descr="Изображение выглядит как рулетка, объект&#10;&#10;Описание создано автоматически"/>
          <p:cNvPicPr/>
          <p:nvPr/>
        </p:nvPicPr>
        <p:blipFill>
          <a:blip r:embed="rId1"/>
          <a:stretch/>
        </p:blipFill>
        <p:spPr>
          <a:xfrm>
            <a:off x="490680" y="1306440"/>
            <a:ext cx="3781440" cy="4245120"/>
          </a:xfrm>
          <a:prstGeom prst="rect">
            <a:avLst/>
          </a:prstGeom>
          <a:ln w="0">
            <a:noFill/>
          </a:ln>
        </p:spPr>
      </p:pic>
      <p:pic>
        <p:nvPicPr>
          <p:cNvPr id="144" name="Google Shape;194;p25" descr=""/>
          <p:cNvPicPr/>
          <p:nvPr/>
        </p:nvPicPr>
        <p:blipFill>
          <a:blip r:embed="rId2"/>
          <a:stretch/>
        </p:blipFill>
        <p:spPr>
          <a:xfrm>
            <a:off x="4370400" y="2554200"/>
            <a:ext cx="77979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600B-7BA4-4B5D-9D78-CF0837FC6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5651640" y="1720800"/>
            <a:ext cx="6291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екоторых странах принят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кон «О вредных цифровых коммуникациях»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согласно которому кибербуллинг и онлайн-троллинг признаны уголовными преступлен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гласно этому закону тот, кто использует лексику с угрозами, запугиваниями или оскорблениями в адрес другого человека в сети, может быть оштрафован или даже получить тюремный срок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кже караются пользователи, занимающиеся подстрекательствами, издевательствами и унижен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Заголовок 9"/>
          <p:cNvSpPr/>
          <p:nvPr/>
        </p:nvSpPr>
        <p:spPr>
          <a:xfrm>
            <a:off x="360360" y="550800"/>
            <a:ext cx="11673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Информационная безопасность несовершеннолетн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в Республике Беларусь: правовые и социальные аспект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Травля в сети - ТОСНЕНСКИЙ ВЕСТНИК"/>
          <p:cNvPicPr/>
          <p:nvPr/>
        </p:nvPicPr>
        <p:blipFill>
          <a:blip r:embed="rId1"/>
          <a:stretch/>
        </p:blipFill>
        <p:spPr>
          <a:xfrm>
            <a:off x="469800" y="1886040"/>
            <a:ext cx="4983120" cy="33177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360360" y="5359320"/>
            <a:ext cx="539892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ллицид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ведение до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оубийства путем психологического насил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ет быть как результат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бербуллинг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0F05-BE41-407B-BB2A-62C5B65E1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Заголовок 9"/>
          <p:cNvSpPr/>
          <p:nvPr/>
        </p:nvSpPr>
        <p:spPr>
          <a:xfrm>
            <a:off x="360360" y="550800"/>
            <a:ext cx="11673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Информационная безопасность несовершеннолетн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в Республике Беларусь: правовые и социальные аспект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60360" y="4111560"/>
            <a:ext cx="500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бермошенничеств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дин из видов киберпреступлений, целью которого является обман пользователей: незаконное получение доступа либо хищение личной информации (номера банковских счетов, паспортные данные, коды, пароли и т. д.), а также злоупотребление доверием человека с целью причинить ему материальный или иной ущерб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Борьба с кибермошенничеством - ИНФОГРАФИКА от EMA"/>
          <p:cNvPicPr/>
          <p:nvPr/>
        </p:nvPicPr>
        <p:blipFill>
          <a:blip r:embed="rId1"/>
          <a:stretch/>
        </p:blipFill>
        <p:spPr>
          <a:xfrm>
            <a:off x="722160" y="1563840"/>
            <a:ext cx="4283280" cy="24098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8"/>
          <p:cNvSpPr/>
          <p:nvPr/>
        </p:nvSpPr>
        <p:spPr>
          <a:xfrm>
            <a:off x="5514840" y="1563840"/>
            <a:ext cx="5954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не стать жертвой кибермошенник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Скругленный прямоугольник 3"/>
          <p:cNvSpPr/>
          <p:nvPr/>
        </p:nvSpPr>
        <p:spPr>
          <a:xfrm>
            <a:off x="5546880" y="2013120"/>
            <a:ext cx="6427800" cy="64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Посоветоваться со взрослыми перед тем, как воспользоваться теми или иными услугами се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кругленный прямоугольник 7"/>
          <p:cNvSpPr/>
          <p:nvPr/>
        </p:nvSpPr>
        <p:spPr>
          <a:xfrm>
            <a:off x="5546880" y="2746440"/>
            <a:ext cx="6427800" cy="1030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Установить на свой компьютер антивирус или персональный брандмауэр. Подобные приложения наблюдают за трафиком и могут предотвратить кражу личных данных или другие подобные действ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Скругленный прямоугольник 12"/>
          <p:cNvSpPr/>
          <p:nvPr/>
        </p:nvSpPr>
        <p:spPr>
          <a:xfrm>
            <a:off x="5514840" y="4662360"/>
            <a:ext cx="6491520" cy="1906560"/>
          </a:xfrm>
          <a:prstGeom prst="roundRect">
            <a:avLst>
              <a:gd name="adj" fmla="val 16667"/>
            </a:avLst>
          </a:prstGeom>
          <a:solidFill>
            <a:srgbClr val="ffb7b7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Никогда не сообщать в Интернет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оль от своей электронной почт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мер банковской карточки родител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оль от электронного кошель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настоящий адре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ую личн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кругленный прямоугольник 8"/>
          <p:cNvSpPr/>
          <p:nvPr/>
        </p:nvSpPr>
        <p:spPr>
          <a:xfrm>
            <a:off x="5546880" y="3860640"/>
            <a:ext cx="6427800" cy="71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Перед покупкой необходимо собрать   информацию об интернет-магаз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1B25-C8EF-453A-83EA-B429C3AB24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Заголовок 9"/>
          <p:cNvSpPr/>
          <p:nvPr/>
        </p:nvSpPr>
        <p:spPr>
          <a:xfrm>
            <a:off x="360360" y="550800"/>
            <a:ext cx="11673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Информационная безопасность несовершеннолетн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в Республике Беларусь: правовые и социальные аспект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В чём таится опасность Интернета для детей"/>
          <p:cNvPicPr/>
          <p:nvPr/>
        </p:nvPicPr>
        <p:blipFill>
          <a:blip r:embed="rId1"/>
          <a:stretch/>
        </p:blipFill>
        <p:spPr>
          <a:xfrm>
            <a:off x="1128600" y="1703520"/>
            <a:ext cx="4498920" cy="2997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8"/>
          <p:cNvSpPr/>
          <p:nvPr/>
        </p:nvSpPr>
        <p:spPr>
          <a:xfrm>
            <a:off x="360360" y="491508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асный контент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информация, представляющая угрозу или вызывающая у человека неприязнь (видеоролики, изображения и тексты сексуального, экстремистского характера, призывы к насилию, пропаганда и распространение наркотиков, информация суицидального характера и т. д.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: скругленные углы 3"/>
          <p:cNvSpPr/>
          <p:nvPr/>
        </p:nvSpPr>
        <p:spPr>
          <a:xfrm>
            <a:off x="6896160" y="1703520"/>
            <a:ext cx="4935600" cy="4603680"/>
          </a:xfrm>
          <a:prstGeom prst="roundRect">
            <a:avLst>
              <a:gd name="adj" fmla="val 5315"/>
            </a:avLst>
          </a:prstGeom>
          <a:solidFill>
            <a:srgbClr val="ffffff"/>
          </a:solidFill>
          <a:ln w="38160">
            <a:solidFill>
              <a:srgbClr val="ac1b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Всегда помн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леко не всё, что можно прочесть или увидеть в Интернете, — прав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Интернете каждый может представить себя не тем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ем является на самом де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Как и реальный мир, 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Сеть может быть опасн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дь бдителен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AD04-AB91-4BF1-B134-467D8332DE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360360" y="1635120"/>
            <a:ext cx="1114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ты или твой друг оказались в сложной жизненной ситуации, то помните: всегда есть люди, готовые помоч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Рисунок 4" descr=""/>
          <p:cNvPicPr/>
          <p:nvPr/>
        </p:nvPicPr>
        <p:blipFill>
          <a:blip r:embed="rId1"/>
          <a:stretch/>
        </p:blipFill>
        <p:spPr>
          <a:xfrm>
            <a:off x="885960" y="2460600"/>
            <a:ext cx="582120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Скругленный прямоугольник 5"/>
          <p:cNvSpPr/>
          <p:nvPr/>
        </p:nvSpPr>
        <p:spPr>
          <a:xfrm>
            <a:off x="885960" y="5826240"/>
            <a:ext cx="5821200" cy="693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национальная детская линия помощи: 8-801-100-16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Заголовок 9"/>
          <p:cNvSpPr/>
          <p:nvPr/>
        </p:nvSpPr>
        <p:spPr>
          <a:xfrm>
            <a:off x="360360" y="550800"/>
            <a:ext cx="11673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Информационная безопасность несовершеннолетн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в Республике Беларусь: правовые и социальные аспект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7659720" y="2166840"/>
            <a:ext cx="317664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45F0-E13D-407B-9211-100CB9E1D9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Заголовок 9"/>
          <p:cNvSpPr/>
          <p:nvPr/>
        </p:nvSpPr>
        <p:spPr>
          <a:xfrm>
            <a:off x="360360" y="668160"/>
            <a:ext cx="114714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e40"/>
                </a:solidFill>
                <a:latin typeface="Arial Black"/>
              </a:rPr>
              <a:t>Мы в современном мире информаци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878360" y="1492200"/>
            <a:ext cx="6600960" cy="47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последние годы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ть Интернет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сновной канал для получения новостей и пространство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общ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тущая роль СМИ вызывает необходимость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проведении системной государственной информационной политики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сударство стремится создать благоприятные условия для функционирования масс-медиа и соблюсти при этом интересы личности, общества и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основе политики государства в информационной сфере лежит право человека на информацию, которое закреплено в Конституции Республики Белару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4" descr=""/>
          <p:cNvPicPr/>
          <p:nvPr/>
        </p:nvPicPr>
        <p:blipFill>
          <a:blip r:embed="rId1"/>
          <a:stretch/>
        </p:blipFill>
        <p:spPr>
          <a:xfrm>
            <a:off x="527040" y="1704960"/>
            <a:ext cx="41799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6E95-D2FB-4026-8E9A-08958D03E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Заголовок 9"/>
          <p:cNvSpPr/>
          <p:nvPr/>
        </p:nvSpPr>
        <p:spPr>
          <a:xfrm>
            <a:off x="360360" y="668160"/>
            <a:ext cx="114714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e40"/>
                </a:solidFill>
                <a:latin typeface="Arial Black"/>
              </a:rPr>
              <a:t>Мы в современном мире информаци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4405320" y="1409760"/>
            <a:ext cx="7426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ой принцип информационной политики — свобода массовой информа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кон «О средствах массовой информации»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(далее — Закон о СМИ) от 17 июня 2008 года гарантирует гражданам свободу мнений, убеждений и их свободное выражение. В Республике Беларусь запрещена цензура СМИ. Никто не вправе мешать законной деятельности учредителя СМИ, его редакции, а также распространителя информационной продук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tretch/>
        </p:blipFill>
        <p:spPr>
          <a:xfrm>
            <a:off x="485640" y="1544760"/>
            <a:ext cx="3629160" cy="2415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7"/>
          <p:cNvSpPr/>
          <p:nvPr/>
        </p:nvSpPr>
        <p:spPr>
          <a:xfrm>
            <a:off x="396720" y="4419720"/>
            <a:ext cx="1123488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Свобода СМИ не означает вседозволен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Клевета (распространение заведомо ложных сведений), оскорбление, дискредитация деловой репутации относятся к уголовно наказуемым деяния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396720" y="5672160"/>
            <a:ext cx="114350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В Закон о СМИ были внесены изменения и дополнения, вступившие в силу с 1 января 2015 г. Закон наделил интернет-ресурсы правами и обязанностями традиционных С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114C-4978-48F7-A29C-8D5D806CB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Заголовок 9"/>
          <p:cNvSpPr/>
          <p:nvPr/>
        </p:nvSpPr>
        <p:spPr>
          <a:xfrm>
            <a:off x="360360" y="668160"/>
            <a:ext cx="114714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e40"/>
                </a:solidFill>
                <a:latin typeface="Arial Black"/>
              </a:rPr>
              <a:t>Мы в современном мире информаци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4397400" y="1409760"/>
            <a:ext cx="754524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а обеспечивают комплексное видение мир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этом полученное представление о мире и настоящий мир могут не совпада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этому, взаимодействуя с любым медиатекстом, человек должен задавать себе следующие вопрос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то создал этот медиатекс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им способом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какой целью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кого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то может получить от этого медиатекста пользу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у он может навредить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О чем не говорится в этом медиатексте, а надо бы знать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Дискуссия по медиаграмотности в рамках Московского форума «Город  образования» – ИИТО ЮНЕСКО"/>
          <p:cNvPicPr/>
          <p:nvPr/>
        </p:nvPicPr>
        <p:blipFill>
          <a:blip r:embed="rId1"/>
          <a:stretch/>
        </p:blipFill>
        <p:spPr>
          <a:xfrm>
            <a:off x="689040" y="1409760"/>
            <a:ext cx="3273480" cy="18795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"/>
          <p:cNvPicPr/>
          <p:nvPr/>
        </p:nvPicPr>
        <p:blipFill>
          <a:blip r:embed="rId2"/>
          <a:stretch/>
        </p:blipFill>
        <p:spPr>
          <a:xfrm>
            <a:off x="471600" y="3794040"/>
            <a:ext cx="34909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11" descr=""/>
          <p:cNvPicPr/>
          <p:nvPr/>
        </p:nvPicPr>
        <p:blipFill>
          <a:blip r:embed="rId1"/>
          <a:stretch/>
        </p:blipFill>
        <p:spPr>
          <a:xfrm>
            <a:off x="4862520" y="2558880"/>
            <a:ext cx="2711520" cy="242424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F03B-E068-4738-934D-897580CF9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Заголовок 9"/>
          <p:cNvSpPr/>
          <p:nvPr/>
        </p:nvSpPr>
        <p:spPr>
          <a:xfrm>
            <a:off x="360360" y="668160"/>
            <a:ext cx="114714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8e40"/>
                </a:solidFill>
                <a:latin typeface="Arial Black"/>
              </a:rPr>
              <a:t>Мы в современном мире информаци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360360" y="1303200"/>
            <a:ext cx="1136016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акультур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— культура производства, передачи и восприятия информации, чтения, анализа, оценки и создания медиатекстов, медиатворче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ровень медиакультуры личности и общества определяется знаниями и умен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374760" y="2479680"/>
            <a:ext cx="4651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ол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треби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еобходим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ть, что такое информация и меди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ть искать информацию и проверять ее достовер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ть критически оценивать контен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ть безопасно использовать                  и распространять информацию                            с соблюдением нравственных и правовых нор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331920" y="5459400"/>
            <a:ext cx="1136016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ные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ы качества контента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: полнота и точность передачи информации; оперативность; отделение фактов от мнений и комментариев; сбалансированность (представленность разных точек зрения); обязательная ссылка на источник информ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7508880" y="2568600"/>
            <a:ext cx="4211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ол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еобходим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ть, что такое информация и меди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ть обрабатывать информацию с помощью разных технолог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меть создавать и распространять медиатексты с соблюдением нравственных и правовых нор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3876-B3EB-43F4-A582-54945C0BDF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9"/>
          <p:cNvSpPr/>
          <p:nvPr/>
        </p:nvSpPr>
        <p:spPr>
          <a:xfrm>
            <a:off x="360360" y="550800"/>
            <a:ext cx="11673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Информационная безопасность несовершеннолетн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в Республике Беларусь: правовые и социальные аспект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360360" y="1792440"/>
            <a:ext cx="112698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вое обеспечение информационной безопасности несовершеннолетних в Республике Беларусь реализуется посредством разработки нормативных правовых ак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соответствии со ст. 4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цепции национальной безопасности Республики Беларусь информационная безопасность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это состояние защищенности сбалансированных интересов личности, общества и государства от внешних и внутренних угроз в информационной сфер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 основным угрозам национальной безопасности относится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структивное информационное воздейств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 личность, общество и государственные институты, наносящее ущерб национальным интересам (ст. 27 Концепци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гласно ст. 11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кона Республики Беларусь «О правах ребенка»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ждый ребенок имеет право на получение, хранение и распространение информа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. 22 гарантирует право ребенка на защиту от информации, пропаганды и агитации, наносящих вред его здоровью, нравственному и духовному развит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B982-C384-49C6-8ED9-8C2918DFB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4405320" y="2486160"/>
            <a:ext cx="7404120" cy="41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минг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установление дружеских отношений с несовершеннолетним с целью вступления в сексуальный контак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Работают преступники по следующей схеме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цо, заинтересованное в интимной связи с несовершеннолетним, представляется в Сети другим человеком, втирается в доверие к несовершеннолетнему и настаивает на личной встреч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комство чаще всего происходит в чате, на форуме или в социальной сети от имени ровесника, модного фотографа, владельца модельного агентства и т. 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щаясь лично («в привате»), злоумышленник входит в доверие к ребенку, пытается узнать личную информацию (адрес, телефон) и договориться о встреч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Заголовок 9"/>
          <p:cNvSpPr/>
          <p:nvPr/>
        </p:nvSpPr>
        <p:spPr>
          <a:xfrm>
            <a:off x="360360" y="550800"/>
            <a:ext cx="11673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Информационная безопасность несовершеннолетн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в Республике Беларусь: правовые и социальные аспект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485640" y="1703520"/>
            <a:ext cx="11346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минг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бербуллинг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ллицид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бермошенничеств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асный контент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лишь некоторые из опасностей, которые могут подстерегать в интерне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Administrator\Downloads\груминг.jpg"/>
          <p:cNvPicPr/>
          <p:nvPr/>
        </p:nvPicPr>
        <p:blipFill>
          <a:blip r:embed="rId1"/>
          <a:stretch/>
        </p:blipFill>
        <p:spPr>
          <a:xfrm>
            <a:off x="549360" y="2932200"/>
            <a:ext cx="36957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C943-2890-4A4F-B27A-7D8AEC0ED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360360" y="1684440"/>
            <a:ext cx="7418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веты по предупреждению грумин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Скругленный прямоугольник 3"/>
          <p:cNvSpPr/>
          <p:nvPr/>
        </p:nvSpPr>
        <p:spPr>
          <a:xfrm>
            <a:off x="271440" y="2233440"/>
            <a:ext cx="5653080" cy="70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Следить за информацией, которую выкладываешь в Интернете. Нельзя выкладывать свои личные дан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кругленный прямоугольник 7"/>
          <p:cNvSpPr/>
          <p:nvPr/>
        </p:nvSpPr>
        <p:spPr>
          <a:xfrm>
            <a:off x="271440" y="3246480"/>
            <a:ext cx="5653080" cy="80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Использовать псевдоним при общении в чатах, использовании программ мгновенного обмена сообщениями, пользовании онлайн-игр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Скругленный прямоугольник 8"/>
          <p:cNvSpPr/>
          <p:nvPr/>
        </p:nvSpPr>
        <p:spPr>
          <a:xfrm>
            <a:off x="271440" y="4365720"/>
            <a:ext cx="5653080" cy="70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Не размещать и не посылать свои фотографии незнакомц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Скругленный прямоугольник 10"/>
          <p:cNvSpPr/>
          <p:nvPr/>
        </p:nvSpPr>
        <p:spPr>
          <a:xfrm>
            <a:off x="271440" y="5380200"/>
            <a:ext cx="565308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Быть осторожным при общении с незнакомыми людьми, рассказывать как можно меньше личной информации о се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Скругленный прямоугольник 11"/>
          <p:cNvSpPr/>
          <p:nvPr/>
        </p:nvSpPr>
        <p:spPr>
          <a:xfrm>
            <a:off x="6234120" y="2233440"/>
            <a:ext cx="5653080" cy="109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Если новый знакомый пытается говорить на неприятные или пугающие вас темы и говорит об этом как о секрете, то немедленно сообщить об этом родителям или взрослым, которым ты доверяеш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кругленный прямоугольник 12"/>
          <p:cNvSpPr/>
          <p:nvPr/>
        </p:nvSpPr>
        <p:spPr>
          <a:xfrm>
            <a:off x="6234120" y="3576600"/>
            <a:ext cx="5653080" cy="603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Необходимо сохранить факт груминга, например, сделать снимок с экра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кругленный прямоугольник 13"/>
          <p:cNvSpPr/>
          <p:nvPr/>
        </p:nvSpPr>
        <p:spPr>
          <a:xfrm>
            <a:off x="6234120" y="4432320"/>
            <a:ext cx="5653080" cy="84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Не забывать выходить из своего аккаунта на различных сайтах. Не сохранять на чужом компьютере свои пароли, личные файлы, историю перепис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Скругленный прямоугольник 14"/>
          <p:cNvSpPr/>
          <p:nvPr/>
        </p:nvSpPr>
        <p:spPr>
          <a:xfrm>
            <a:off x="6234120" y="5530680"/>
            <a:ext cx="5653080" cy="776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Никогда не принимать приглашение в гости к человеку, с которым познакомился в Интернете и не приглашать его к себ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Заголовок 9"/>
          <p:cNvSpPr/>
          <p:nvPr/>
        </p:nvSpPr>
        <p:spPr>
          <a:xfrm>
            <a:off x="360360" y="550800"/>
            <a:ext cx="11673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Информационная безопасность несовершеннолетн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в Республике Беларусь: правовые и социальные аспект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1"/>
          <p:cNvSpPr/>
          <p:nvPr/>
        </p:nvSpPr>
        <p:spPr>
          <a:xfrm>
            <a:off x="9790200" y="6519960"/>
            <a:ext cx="215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2977-269F-476E-BB94-3C3833E0A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4245120" y="7002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Скругленный прямоугольник 8"/>
          <p:cNvSpPr/>
          <p:nvPr/>
        </p:nvSpPr>
        <p:spPr>
          <a:xfrm>
            <a:off x="5162400" y="3583080"/>
            <a:ext cx="6710400" cy="560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Анонимность в сети мнимая. Существуют способы выяснить, кто стоит за анонимным аккаун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Скругленный прямоугольник 10"/>
          <p:cNvSpPr/>
          <p:nvPr/>
        </p:nvSpPr>
        <p:spPr>
          <a:xfrm>
            <a:off x="5172120" y="4264200"/>
            <a:ext cx="6710400" cy="599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Необходимо управлять своей киберрепутацией. Самому не вести хулиганский образ виртуальной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Скругленный прямоугольник 11"/>
          <p:cNvSpPr/>
          <p:nvPr/>
        </p:nvSpPr>
        <p:spPr>
          <a:xfrm>
            <a:off x="5154480" y="4987800"/>
            <a:ext cx="6728040" cy="72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Если вы стали свидетелем кибербуллинга, то надо выступить против агрессора, поддержать жертву, которой нужна психологическая помощь, сообщить взросл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кругленный прямоугольник 13"/>
          <p:cNvSpPr/>
          <p:nvPr/>
        </p:nvSpPr>
        <p:spPr>
          <a:xfrm>
            <a:off x="5154480" y="5842080"/>
            <a:ext cx="6728040" cy="69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В программах обмена мгновенными сообщениями, соцсетях есть возможность блокировки отправки сообщений с определенных адре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Заголовок 9"/>
          <p:cNvSpPr/>
          <p:nvPr/>
        </p:nvSpPr>
        <p:spPr>
          <a:xfrm>
            <a:off x="360360" y="550800"/>
            <a:ext cx="11673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Информационная безопасность несовершеннолетних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Arial Black"/>
              </a:rPr>
              <a:t>в Республике Беларусь: правовые и социальные аспект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бъект 2"/>
          <p:cNvSpPr/>
          <p:nvPr/>
        </p:nvSpPr>
        <p:spPr>
          <a:xfrm>
            <a:off x="309600" y="4010040"/>
            <a:ext cx="458316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Кибербу́ллинг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 —  это травля с использованием цифровых технологи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Это может происходить в социальных сетях, мессенджерах, на игровых платформах и в мобильных телефона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Это целенаправленная модель поведения, которая ставит своей задачей  запугать, разозлить или опозорить того, кто стал объектом травл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Рисунок 4" descr=""/>
          <p:cNvPicPr/>
          <p:nvPr/>
        </p:nvPicPr>
        <p:blipFill>
          <a:blip r:embed="rId1"/>
          <a:stretch/>
        </p:blipFill>
        <p:spPr>
          <a:xfrm>
            <a:off x="612720" y="1603440"/>
            <a:ext cx="4289400" cy="2411280"/>
          </a:xfrm>
          <a:prstGeom prst="rect">
            <a:avLst/>
          </a:prstGeom>
          <a:ln w="0">
            <a:noFill/>
          </a:ln>
        </p:spPr>
      </p:pic>
      <p:sp>
        <p:nvSpPr>
          <p:cNvPr id="202" name="Скругленный прямоугольник 7"/>
          <p:cNvSpPr/>
          <p:nvPr/>
        </p:nvSpPr>
        <p:spPr>
          <a:xfrm>
            <a:off x="5172120" y="2654280"/>
            <a:ext cx="670392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е игнорировать сообщения, которые содержат угрозы. Следует скопировать эти сообщения, рассказать родителям, обратиться в правоохранительные орг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кругленный прямоугольник 3"/>
          <p:cNvSpPr/>
          <p:nvPr/>
        </p:nvSpPr>
        <p:spPr>
          <a:xfrm>
            <a:off x="5172120" y="1973160"/>
            <a:ext cx="6700680" cy="560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Необходимо успокоиться. Игнорируйте единичный негатив.  Не отвечайте оскорблениями на оскорбл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8"/>
          <p:cNvSpPr/>
          <p:nvPr/>
        </p:nvSpPr>
        <p:spPr>
          <a:xfrm>
            <a:off x="5172120" y="1521000"/>
            <a:ext cx="665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противостоять кибербуллинг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3T10:14:15Z</dcterms:created>
  <dc:creator>Ирина Харевич</dc:creator>
  <dc:description/>
  <dc:language>en-US</dc:language>
  <cp:lastModifiedBy>Сергей Хмарский</cp:lastModifiedBy>
  <cp:lastPrinted>2018-12-07T06:48:34Z</cp:lastPrinted>
  <dcterms:modified xsi:type="dcterms:W3CDTF">2020-12-17T09:26:21Z</dcterms:modified>
  <cp:revision>336</cp:revision>
  <dc:subject/>
  <dc:title>Презентация PowerPoint</dc:title>
</cp:coreProperties>
</file>